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4AF-9574-45E2-9433-46335B55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D69-6793-4F2E-9BF3-C29A1A69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E48-7378-4B7F-9B12-17DCF34C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71C-8069-48D3-A286-2E5226E2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CED-AE68-4EC7-92D2-AE70BC4A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91E-B689-456A-9ED8-534AD1A2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7B4-A989-4DE1-92D8-022F1AA0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C7B-1785-45E4-A26F-4F61BAD8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1DC-0125-4F19-9F1B-3346B6D3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AD0-1516-44B4-9D0C-E220C60E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077-E549-4317-BC4A-E1CF564A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650-811F-4797-A96D-B6B127AC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72AB-1ECD-4B4F-97F8-DB267C0569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222F50-C931-46A2-A737-F4BFDDA103CF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8:50 A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CABF-156B-4ACF-8CE3-9647CEED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9051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Chemistry Test 9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624-2C51-44B7-BC2C-8361DB0FCA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hanges in S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s it possible to boil water at room temperatu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38F-7413-44BE-AE88-BC936329B3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hanges in S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s the temperature of water at boiling (assuming 1 atm)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796-0AE7-42C8-BB41-A4DAE14E04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Vapor Press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ubstances with weaker IMF tend to have higher vapor press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005-1E2B-41E4-AFB7-E64EF05ECC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Vapor Press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quilibrium exists within a closed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is happen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CC4-E6ED-403A-A557-DB2F901F1F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Henry’s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ressure to gas-liquid solubi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at would happen with an increase in temperatu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E70-CB53-4AF2-B852-2B04867DD2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olar He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 heat energy released or absorb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Q=n*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Q=n*H</a:t>
            </a:r>
            <a:r>
              <a:rPr b="1" lang="en-US" sz="5400" spc="-1" strike="noStrike" baseline="-25000">
                <a:solidFill>
                  <a:srgbClr val="eaeaea"/>
                </a:solidFill>
                <a:latin typeface="Arial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8EC-C1C2-4CBA-BE8A-5656C6C4BF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Soli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ecular, covalent network, ionic, metallic and amorph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able to ID (also props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8E7-774F-45B0-868A-045C5F6648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Phase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ritical point, critical pressure, critical temperature, solid, liquid, gas (vapor), normal b.p., normal f.p., triple 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BFE-D77D-456E-A0A7-106C25630E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ix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lutions are homogene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lectrolytes conduct electric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aturated, unsaturated, supersatu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592-8789-4B59-8989-46D03A0730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ix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ll solutions have a solute and a solv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Dissolving rates increase with stirring, heat and crushing the sol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EDB-58CE-4144-9315-303B1E7465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Tes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45 multiple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Each question holds the equal weight (1 p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rite-on answ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4 probl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01D-3616-4A04-9F01-CA12701EDF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ix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eterogeneous: different properties through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Colloids: settle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uspensions: settle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yndall Effect (scattering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7EE-1340-4134-B817-D0090D9793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Pola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olar dissolves pola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Nonpolar dissolves nonpo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Like dissolves lik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4B1-EFB7-4DCF-81F3-C23048A9B1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Molarit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A measure of concent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oles of solute per liters of 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 = mol / 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8AE-C30A-4B20-9909-0B2C752464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deal Gas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PV = n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able to convert pressures and tempera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D58-62C8-466F-9E1A-64156B179B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Final Word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Finish all worksheets, staple th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e ready to go at start of class (seated with calculato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Get your point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9C7-28D6-4A25-AE62-D43A887309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Recommend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Don’t just copy the W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Study how to answer the questions, don’t memor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Give yourself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Plan your testing time wise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139-CA87-40AD-8347-C7696590A5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ntermolecular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3 types (strongest to weakes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Hydrogen, dipole-dipole, London dispersion fo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38D-DF64-42CD-AC75-7742637860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ntermolecular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se forces are between molecu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hey govern states of ma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IMF increases between hydrocarbons with higher molar mas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114-0E21-4E60-B4B4-F46FC3CEED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ntermolecular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ubstances change states (i.e., liquid to gas) when they have enough energy to overcome their IMF (attractive forc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810-532A-48D8-8D92-770709D8BA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ntermolecular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When comparing substances to one another, ask why will one evaporate faster than the othe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59A-303F-4CDD-813B-534F51566B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Intermolecular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Remember: hydrogen “bonding” is a force that exists within molecules that include H and N, O, 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BC4-C2C1-4594-9561-3DF32ECEE7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aeaea"/>
                </a:solidFill>
                <a:uFillTx/>
                <a:latin typeface="Arial"/>
              </a:rPr>
              <a:t>Changes in S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oiling, deposition, condensation, evaporation, melting, sublimation, vaporizatio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 Test 9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4D1-DD86-4B2A-B06D-E85DD17B23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9:11:04Z</dcterms:created>
  <dc:creator>CFISD</dc:creator>
  <dc:description/>
  <dc:language>en-US</dc:language>
  <cp:lastModifiedBy>CFISD</cp:lastModifiedBy>
  <dcterms:modified xsi:type="dcterms:W3CDTF">2009-02-16T16:04:35Z</dcterms:modified>
  <cp:revision>61</cp:revision>
  <dc:subject/>
  <dc:title>Slide 1</dc:title>
</cp:coreProperties>
</file>